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7.png" ContentType="image/png"/>
  <Override PartName="/ppt/media/image32.png" ContentType="image/png"/>
  <Override PartName="/ppt/media/image15.wmf" ContentType="image/x-wmf"/>
  <Override PartName="/ppt/media/image16.wmf" ContentType="image/x-wmf"/>
  <Override PartName="/ppt/media/image8.png" ContentType="image/png"/>
  <Override PartName="/ppt/media/image30.png" ContentType="image/png"/>
  <Override PartName="/ppt/media/image31.png" ContentType="image/png"/>
  <Override PartName="/ppt/media/image6.png" ContentType="image/png"/>
  <Override PartName="/ppt/media/image12.wmf" ContentType="image/x-wmf"/>
  <Override PartName="/ppt/media/image27.png" ContentType="image/png"/>
  <Override PartName="/ppt/media/image36.wmf" ContentType="image/x-wmf"/>
  <Override PartName="/ppt/media/image26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14.png" ContentType="image/png"/>
  <Override PartName="/ppt/media/image34.wmf" ContentType="image/x-wmf"/>
  <Override PartName="/ppt/media/image4.wmf" ContentType="image/x-wmf"/>
  <Override PartName="/ppt/media/image13.png" ContentType="image/png"/>
  <Override PartName="/ppt/media/image33.wmf" ContentType="image/x-wmf"/>
  <Override PartName="/ppt/media/image3.wmf" ContentType="image/x-wmf"/>
  <Override PartName="/ppt/media/image29.png" ContentType="image/png"/>
  <Override PartName="/ppt/media/image2.wmf" ContentType="image/x-wmf"/>
  <Override PartName="/ppt/media/image10.wmf" ContentType="image/x-wmf"/>
  <Override PartName="/ppt/media/image25.png" ContentType="image/png"/>
  <Override PartName="/ppt/media/image35.wmf" ContentType="image/x-wmf"/>
  <Override PartName="/ppt/media/image5.wmf" ContentType="image/x-wmf"/>
  <Override PartName="/ppt/media/image11.wmf" ContentType="image/x-wmf"/>
  <Override PartName="/ppt/media/explod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BF18-1897-4F63-ADF8-47C6C967C2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25D-F69A-47AB-B6B1-1175666B3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BFC9-0264-4A93-8AB9-FBC7C511E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A90-BB29-4464-8170-A8DECE85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62C-D8A8-46C6-B5AF-DED0AE14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ECA-4B09-4E41-8472-674F9661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7F8-089D-4C40-9094-F61CD345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3F0B-6BF4-43BA-BF62-46A71C08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E92-42CB-40E7-960B-F8315129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3FD1-39B1-4178-9296-1462CF28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5FC-D79E-4952-A617-345E11B4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7F6-AFD9-4099-852D-DCBB2B6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544-F09F-4D9E-BC4C-DE5F2A7A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921A-8F82-40EB-A114-4F513B6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479-7CA6-47B2-9F79-5343922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BA6B-20A6-4C90-9B96-33D3F344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wmf"/><Relationship Id="rId6" Type="http://schemas.openxmlformats.org/officeDocument/2006/relationships/image" Target="../media/image15.wmf"/><Relationship Id="rId7" Type="http://schemas.openxmlformats.org/officeDocument/2006/relationships/image" Target="../media/image11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0.wmf"/><Relationship Id="rId6" Type="http://schemas.openxmlformats.org/officeDocument/2006/relationships/image" Target="../media/image15.wmf"/><Relationship Id="rId7" Type="http://schemas.openxmlformats.org/officeDocument/2006/relationships/image" Target="../media/image11.wmf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Соционик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Модель структуры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235960" y="5500800"/>
            <a:ext cx="48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кладчик: Кулешов Павел Геннад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Arial"/>
              </a:rPr>
              <a:t>Четра</a:t>
            </a:r>
            <a:br>
              <a:rPr sz="3400"/>
            </a:br>
            <a:r>
              <a:rPr b="1" lang="en-US" sz="3400" spc="-1" strike="noStrike">
                <a:solidFill>
                  <a:srgbClr val="3366ff"/>
                </a:solidFill>
                <a:latin typeface="Arial"/>
              </a:rPr>
              <a:t> и соционические аспек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-39528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Соционические аспекты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дихотомия по признаку «дробность-целостность» </a:t>
            </a:r>
            <a:br>
              <a:rPr sz="26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– н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16684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457200" y="1392120"/>
            <a:ext cx="804240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Соционические аспекты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дихотомия по признаку «изменяемость-неизменяемость»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 Cyr"/>
              </a:rPr>
              <a:t>- вер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34920" y="1476360"/>
            <a:ext cx="88804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Расклад соционических функций в рамках структуры самооце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9280" y="609480"/>
          <a:ext cx="8820360" cy="5640480"/>
        </p:xfrm>
        <a:graphic>
          <a:graphicData uri="http://schemas.openxmlformats.org/drawingml/2006/table">
            <a:tbl>
              <a:tblPr/>
              <a:tblGrid>
                <a:gridCol w="2205000"/>
                <a:gridCol w="2205360"/>
                <a:gridCol w="2205000"/>
                <a:gridCol w="2205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Хозя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Г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лу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Завышенн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Реалистическ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Заниженн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Податлив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09480"/>
                          <a:tab algn="l" pos="1217520"/>
                          <a:tab algn="l" pos="1827360"/>
                          <a:tab algn="l" pos="2435400"/>
                          <a:tab algn="l" pos="3044880"/>
                          <a:tab algn="l" pos="3654360"/>
                          <a:tab algn="l" pos="4262400"/>
                          <a:tab algn="l" pos="4871880"/>
                          <a:tab algn="l" pos="5479920"/>
                          <a:tab algn="l" pos="60897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прост и предсказуем. Самоуверенность в оценках и поведении: "Запросто во всём сам разберусь". Максимализм, нетерпимость к возражения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09480"/>
                          <a:tab algn="l" pos="1217520"/>
                          <a:tab algn="l" pos="1827360"/>
                          <a:tab algn="l" pos="2435400"/>
                          <a:tab algn="l" pos="3044880"/>
                          <a:tab algn="l" pos="3654360"/>
                          <a:tab algn="l" pos="4262400"/>
                          <a:tab algn="l" pos="4871880"/>
                          <a:tab algn="l" pos="5479920"/>
                          <a:tab algn="l" pos="60897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непрост, но вполне предсказуем, надо только в нём разобраться. Не без труда, но могу справиться с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09480"/>
                          <a:tab algn="l" pos="1217520"/>
                          <a:tab algn="l" pos="1827360"/>
                          <a:tab algn="l" pos="2435400"/>
                          <a:tab algn="l" pos="3044880"/>
                          <a:tab algn="l" pos="3654360"/>
                          <a:tab algn="l" pos="4262400"/>
                          <a:tab algn="l" pos="4871880"/>
                          <a:tab algn="l" pos="5479920"/>
                          <a:tab algn="l" pos="60897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сложен и противоречив, в нём трудно разобраться. Но с ним всё же можно подружиться, надо только ему понравить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очень сложен и непонятен. От него полностью зависит что и как я буду делать. Ему лучше отдаться и подчиниться, тогда всё будет хорошо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субъект – мир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объект – мир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субъект – мир су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объект – мир су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816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 Cyr"/>
              </a:rPr>
              <a:t>Пример расположения аспектов на функ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280" y="431640"/>
          <a:ext cx="8839440" cy="6400800"/>
        </p:xfrm>
        <a:graphic>
          <a:graphicData uri="http://schemas.openxmlformats.org/drawingml/2006/table">
            <a:tbl>
              <a:tblPr/>
              <a:tblGrid>
                <a:gridCol w="2224080"/>
                <a:gridCol w="2205000"/>
                <a:gridCol w="2205360"/>
                <a:gridCol w="22050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Хозя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Рабо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Г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луг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Завышенн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Реалистическ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Заниженн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Податливая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самооце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09480"/>
                          <a:tab algn="l" pos="1217520"/>
                          <a:tab algn="l" pos="1827360"/>
                          <a:tab algn="l" pos="2435400"/>
                          <a:tab algn="l" pos="3044880"/>
                          <a:tab algn="l" pos="3654360"/>
                          <a:tab algn="l" pos="4262400"/>
                          <a:tab algn="l" pos="4871880"/>
                          <a:tab algn="l" pos="5479920"/>
                          <a:tab algn="l" pos="60897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прост и предсказуем. Самоуверенность в оценках и поведении. Максимализм, нетерпимость к возражениям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09480"/>
                          <a:tab algn="l" pos="1217520"/>
                          <a:tab algn="l" pos="1827360"/>
                          <a:tab algn="l" pos="2435400"/>
                          <a:tab algn="l" pos="3044880"/>
                          <a:tab algn="l" pos="3654360"/>
                          <a:tab algn="l" pos="4262400"/>
                          <a:tab algn="l" pos="4871880"/>
                          <a:tab algn="l" pos="5479920"/>
                          <a:tab algn="l" pos="60897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непрост, но вполне предсказуем, надо только в нём разобраться. Не без труда, но могу справиться са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609480"/>
                          <a:tab algn="l" pos="1217520"/>
                          <a:tab algn="l" pos="1827360"/>
                          <a:tab algn="l" pos="2435400"/>
                          <a:tab algn="l" pos="3044880"/>
                          <a:tab algn="l" pos="3654360"/>
                          <a:tab algn="l" pos="4262400"/>
                          <a:tab algn="l" pos="4871880"/>
                          <a:tab algn="l" pos="5479920"/>
                          <a:tab algn="l" pos="60897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сложен и противоречив, в нём трудно разобраться. Но с ним всё же можно подружитьс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р очень сложен и непонятен. Ему лучше отдаться и подчиниться, тогда всё будет хорош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субъект – мир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объект – мир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субъект – мир су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terburg"/>
                          <a:ea typeface="Times New Roman"/>
                        </a:rPr>
                        <a:t>Я объект – мир су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37" descr="Субъектная этика"/>
          <p:cNvPicPr/>
          <p:nvPr/>
        </p:nvPicPr>
        <p:blipFill>
          <a:blip r:embed="rId1"/>
          <a:stretch/>
        </p:blipFill>
        <p:spPr>
          <a:xfrm>
            <a:off x="2971800" y="48196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3" descr="file:///D:/_sklad/_4аспекты%20и%20функции/Соционика%20Семантика%20аспектов.files/lch.gif"/>
          <p:cNvPicPr/>
          <p:nvPr/>
        </p:nvPicPr>
        <p:blipFill>
          <a:blip r:embed="rId2"/>
          <a:stretch/>
        </p:blipFill>
        <p:spPr>
          <a:xfrm>
            <a:off x="4952880" y="462276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1"/>
          <p:cNvSpPr/>
          <p:nvPr/>
        </p:nvSpPr>
        <p:spPr>
          <a:xfrm>
            <a:off x="403848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0" descr=""/>
          <p:cNvPicPr/>
          <p:nvPr/>
        </p:nvPicPr>
        <p:blipFill>
          <a:blip r:embed="rId3"/>
          <a:stretch/>
        </p:blipFill>
        <p:spPr>
          <a:xfrm>
            <a:off x="685800" y="480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3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2" descr=""/>
          <p:cNvPicPr/>
          <p:nvPr/>
        </p:nvPicPr>
        <p:blipFill>
          <a:blip r:embed="rId4"/>
          <a:stretch/>
        </p:blipFill>
        <p:spPr>
          <a:xfrm>
            <a:off x="6934320" y="4622760"/>
            <a:ext cx="15048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Ключ к пониманию соционической диагностики (типирован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9718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01992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 Cyr"/>
              </a:rPr>
              <a:t>Пример названий типов структуры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9196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Субъектная этика"/>
          <p:cNvPicPr/>
          <p:nvPr/>
        </p:nvPicPr>
        <p:blipFill>
          <a:blip r:embed="rId1"/>
          <a:stretch/>
        </p:blipFill>
        <p:spPr>
          <a:xfrm>
            <a:off x="2971800" y="224784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9196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7861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400536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753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file:///D:/_sklad/_4аспекты%20и%20функции/Соционика%20Семантика%20аспектов.files/lch.gif"/>
          <p:cNvPicPr/>
          <p:nvPr/>
        </p:nvPicPr>
        <p:blipFill>
          <a:blip r:embed="rId2"/>
          <a:stretch/>
        </p:blipFill>
        <p:spPr>
          <a:xfrm>
            <a:off x="4724280" y="2171880"/>
            <a:ext cx="1638360" cy="163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4"/>
          <p:cNvSpPr/>
          <p:nvPr/>
        </p:nvSpPr>
        <p:spPr>
          <a:xfrm>
            <a:off x="39290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Объектная этика"/>
          <p:cNvPicPr/>
          <p:nvPr/>
        </p:nvPicPr>
        <p:blipFill>
          <a:blip r:embed="rId3"/>
          <a:stretch/>
        </p:blipFill>
        <p:spPr>
          <a:xfrm>
            <a:off x="2971800" y="4467240"/>
            <a:ext cx="1285920" cy="1285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6"/>
          <p:cNvSpPr/>
          <p:nvPr/>
        </p:nvSpPr>
        <p:spPr>
          <a:xfrm>
            <a:off x="391968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file:///D:/_sklad/_3описание%20типов/ЛСЭ/Джентльмен%20ВСЕГДА_…__%20или%20еще%209%20глупостей%20о%20мужчинах-Штирлицах6.files/model.3.gif"/>
          <p:cNvPicPr/>
          <p:nvPr/>
        </p:nvPicPr>
        <p:blipFill>
          <a:blip r:embed="rId4"/>
          <a:stretch/>
        </p:blipFill>
        <p:spPr>
          <a:xfrm>
            <a:off x="4800600" y="446724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36957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1687680" y="3733920"/>
            <a:ext cx="55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terburg"/>
              </a:rPr>
              <a:t>Сенсорный этический интров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1775880" y="1714680"/>
            <a:ext cx="56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terburg"/>
              </a:rPr>
              <a:t>Сенсорный этический экстрав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830160" y="5904000"/>
            <a:ext cx="77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Вертн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задаётся вертностью аспекта на перв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152280" y="880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и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        2            3          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403848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4" descr=""/>
          <p:cNvPicPr/>
          <p:nvPr/>
        </p:nvPicPr>
        <p:blipFill>
          <a:blip r:embed="rId5"/>
          <a:stretch/>
        </p:blipFill>
        <p:spPr>
          <a:xfrm>
            <a:off x="1333440" y="2286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7"/>
          <p:cNvSpPr/>
          <p:nvPr/>
        </p:nvSpPr>
        <p:spPr>
          <a:xfrm>
            <a:off x="393876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6" descr=""/>
          <p:cNvPicPr/>
          <p:nvPr/>
        </p:nvPicPr>
        <p:blipFill>
          <a:blip r:embed="rId6"/>
          <a:stretch/>
        </p:blipFill>
        <p:spPr>
          <a:xfrm>
            <a:off x="1228680" y="4267080"/>
            <a:ext cx="140976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9"/>
          <p:cNvSpPr/>
          <p:nvPr/>
        </p:nvSpPr>
        <p:spPr>
          <a:xfrm>
            <a:off x="381960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8" descr=""/>
          <p:cNvPicPr/>
          <p:nvPr/>
        </p:nvPicPr>
        <p:blipFill>
          <a:blip r:embed="rId7"/>
          <a:stretch/>
        </p:blipFill>
        <p:spPr>
          <a:xfrm>
            <a:off x="6400800" y="2127240"/>
            <a:ext cx="1828800" cy="1758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1"/>
          <p:cNvSpPr/>
          <p:nvPr/>
        </p:nvSpPr>
        <p:spPr>
          <a:xfrm>
            <a:off x="39099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0" descr=""/>
          <p:cNvPicPr/>
          <p:nvPr/>
        </p:nvPicPr>
        <p:blipFill>
          <a:blip r:embed="rId8"/>
          <a:stretch/>
        </p:blipFill>
        <p:spPr>
          <a:xfrm>
            <a:off x="6502320" y="4191120"/>
            <a:ext cx="1752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роявление соционического типа в мимик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00120" y="1760400"/>
            <a:ext cx="1571760" cy="213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609480" y="4351320"/>
            <a:ext cx="1571760" cy="2133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8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3"/>
          <a:stretch/>
        </p:blipFill>
        <p:spPr>
          <a:xfrm>
            <a:off x="2514600" y="4351320"/>
            <a:ext cx="1571760" cy="2133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558720" y="6497640"/>
            <a:ext cx="1676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terburg"/>
                <a:ea typeface="Times New Roman"/>
              </a:rPr>
              <a:t>Лучано Паварот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463840" y="3894120"/>
            <a:ext cx="17272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тура Исхакова</a:t>
            </a:r>
            <a:r>
              <a:rPr b="0" lang="ru-RU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93840" y="3881520"/>
            <a:ext cx="198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terburg"/>
                <a:ea typeface="Times New Roman"/>
              </a:rPr>
              <a:t>Виктор Черномырдин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527200" y="6485040"/>
            <a:ext cx="1600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eterburg"/>
                <a:ea typeface="Times New Roman"/>
              </a:rPr>
              <a:t>Ангела Мерке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7277040" y="6485040"/>
            <a:ext cx="12956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йт Хадсон</a:t>
            </a:r>
            <a:r>
              <a:rPr b="0" lang="en-US" sz="16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57200" y="762120"/>
            <a:ext cx="380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Peterburg"/>
              </a:rPr>
              <a:t>Сенсорные этические экстра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Peterburg"/>
              </a:rPr>
              <a:t>Деятельные энергичные, прямолинейные в общении индивидуалисты, гордятся глубиной понимания закономер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1" descr=""/>
          <p:cNvPicPr/>
          <p:nvPr/>
        </p:nvPicPr>
        <p:blipFill>
          <a:blip r:embed="rId4"/>
          <a:stretch/>
        </p:blipFill>
        <p:spPr>
          <a:xfrm>
            <a:off x="5029200" y="4343400"/>
            <a:ext cx="1676520" cy="2133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4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3" descr=""/>
          <p:cNvPicPr/>
          <p:nvPr/>
        </p:nvPicPr>
        <p:blipFill>
          <a:blip r:embed="rId5"/>
          <a:stretch/>
        </p:blipFill>
        <p:spPr>
          <a:xfrm>
            <a:off x="7074000" y="1752480"/>
            <a:ext cx="1571400" cy="2133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6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5" descr=""/>
          <p:cNvPicPr/>
          <p:nvPr/>
        </p:nvPicPr>
        <p:blipFill>
          <a:blip r:embed="rId6"/>
          <a:stretch/>
        </p:blipFill>
        <p:spPr>
          <a:xfrm>
            <a:off x="7074000" y="4356000"/>
            <a:ext cx="1571400" cy="21337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7"/>
          <p:cNvSpPr/>
          <p:nvPr/>
        </p:nvSpPr>
        <p:spPr>
          <a:xfrm>
            <a:off x="5194440" y="3886200"/>
            <a:ext cx="1676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жасур Исхаков</a:t>
            </a:r>
            <a:r>
              <a:rPr b="0" lang="ru-RU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7099200" y="3886200"/>
            <a:ext cx="1600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атьяна Тарасова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5105520" y="6497640"/>
            <a:ext cx="1828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Леонид Якубович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0"/>
          <p:cNvSpPr/>
          <p:nvPr/>
        </p:nvSpPr>
        <p:spPr>
          <a:xfrm>
            <a:off x="4952880" y="762120"/>
            <a:ext cx="419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Peterburg"/>
              </a:rPr>
              <a:t>Сенсорные этические интро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Peterburg"/>
              </a:rPr>
              <a:t>Осторожные, простодушные коллективисты, в общении избегают «острых углов», гордятся осведомлённостью и</a:t>
            </a:r>
            <a:r>
              <a:rPr b="1" lang="en-US" sz="1400" spc="-1" strike="noStrike">
                <a:solidFill>
                  <a:srgbClr val="3366ff"/>
                </a:solidFill>
                <a:latin typeface="Peterburg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3366ff"/>
                </a:solidFill>
                <a:latin typeface="Peterburg"/>
              </a:rPr>
              <a:t>эрудици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046840" y="1752480"/>
            <a:ext cx="1658880" cy="2133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1571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 Cyr"/>
              </a:rPr>
              <a:t>Ещё пример названий типов структуры самооц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Субъектная этика"/>
          <p:cNvPicPr/>
          <p:nvPr/>
        </p:nvPicPr>
        <p:blipFill>
          <a:blip r:embed="rId1"/>
          <a:stretch/>
        </p:blipFill>
        <p:spPr>
          <a:xfrm>
            <a:off x="2971800" y="257652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file:///D:/_sklad/_4аспекты%20и%20функции/Соционика%20Семантика%20аспектов.files/lch.gif"/>
          <p:cNvPicPr/>
          <p:nvPr/>
        </p:nvPicPr>
        <p:blipFill>
          <a:blip r:embed="rId2"/>
          <a:stretch/>
        </p:blipFill>
        <p:spPr>
          <a:xfrm>
            <a:off x="4724280" y="25002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" descr="Объектная этика"/>
          <p:cNvPicPr/>
          <p:nvPr/>
        </p:nvPicPr>
        <p:blipFill>
          <a:blip r:embed="rId3"/>
          <a:stretch/>
        </p:blipFill>
        <p:spPr>
          <a:xfrm>
            <a:off x="2971800" y="4795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file:///D:/_sklad/_3описание%20типов/ЛСЭ/Джентльмен%20ВСЕГДА_…__%20или%20еще%209%20глупостей%20о%20мужчинах-Штирлицах6.files/model.3.gif"/>
          <p:cNvPicPr/>
          <p:nvPr/>
        </p:nvPicPr>
        <p:blipFill>
          <a:blip r:embed="rId4"/>
          <a:stretch/>
        </p:blipFill>
        <p:spPr>
          <a:xfrm>
            <a:off x="4800600" y="4795920"/>
            <a:ext cx="1305000" cy="1305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9"/>
          <p:cNvSpPr/>
          <p:nvPr/>
        </p:nvSpPr>
        <p:spPr>
          <a:xfrm>
            <a:off x="1469880" y="4062240"/>
            <a:ext cx="60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terburg"/>
              </a:rPr>
              <a:t>Интуитивный этический интров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1570680" y="204300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eterburg"/>
              </a:rPr>
              <a:t>Интуитивный этический экстраве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830160" y="6232680"/>
            <a:ext cx="77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Вертн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ипа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задаётся вертностью аспекта на первой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52280" y="1209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и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1           2            3           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5"/>
          <a:stretch/>
        </p:blipFill>
        <p:spPr>
          <a:xfrm>
            <a:off x="6438960" y="4800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6"/>
          <a:stretch/>
        </p:blipFill>
        <p:spPr>
          <a:xfrm>
            <a:off x="6324480" y="2362320"/>
            <a:ext cx="1409760" cy="1600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7"/>
          <a:stretch/>
        </p:blipFill>
        <p:spPr>
          <a:xfrm>
            <a:off x="1143000" y="4641840"/>
            <a:ext cx="1828800" cy="1758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8"/>
          <a:stretch/>
        </p:blipFill>
        <p:spPr>
          <a:xfrm>
            <a:off x="1143000" y="236232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Проявление соционического типа в мимике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552760" y="6472080"/>
            <a:ext cx="168912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йхон Уласе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57200" y="838080"/>
            <a:ext cx="4267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Интуитивные этические экстра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ff"/>
                </a:solidFill>
                <a:latin typeface="Peterburg"/>
              </a:rPr>
              <a:t>Задиристые, напористые, порывистые инди-видуалисты,</a:t>
            </a:r>
            <a:r>
              <a:rPr b="1" lang="ru-RU" sz="1400" spc="-1" strike="noStrike">
                <a:solidFill>
                  <a:srgbClr val="3366ff"/>
                </a:solidFill>
                <a:latin typeface="Peterburg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66ff"/>
                </a:solidFill>
                <a:latin typeface="Peterburg"/>
              </a:rPr>
              <a:t>гордятся глубиной понимания</a:t>
            </a:r>
            <a:r>
              <a:rPr b="1" lang="ru-RU" sz="1400" spc="-1" strike="noStrike">
                <a:solidFill>
                  <a:srgbClr val="3366ff"/>
                </a:solidFill>
                <a:latin typeface="Peterburg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66ff"/>
                </a:solidFill>
                <a:latin typeface="Peterburg"/>
              </a:rPr>
              <a:t>закономерностей действительности</a:t>
            </a:r>
            <a:r>
              <a:rPr b="1" lang="ru-RU" sz="1400" spc="-1" strike="noStrike">
                <a:solidFill>
                  <a:srgbClr val="3366ff"/>
                </a:solidFill>
                <a:latin typeface="Peterburg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3366ff"/>
                </a:solidFill>
                <a:latin typeface="Peterburg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1"/>
          <a:stretch/>
        </p:blipFill>
        <p:spPr>
          <a:xfrm>
            <a:off x="2511360" y="1828800"/>
            <a:ext cx="1557360" cy="2114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96880" y="4336920"/>
            <a:ext cx="1557360" cy="21146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3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"/>
          <p:cNvPicPr/>
          <p:nvPr/>
        </p:nvPicPr>
        <p:blipFill>
          <a:blip r:embed="rId3"/>
          <a:stretch/>
        </p:blipFill>
        <p:spPr>
          <a:xfrm>
            <a:off x="596880" y="1828800"/>
            <a:ext cx="1557360" cy="2114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5"/>
          <p:cNvSpPr/>
          <p:nvPr/>
        </p:nvSpPr>
        <p:spPr>
          <a:xfrm>
            <a:off x="5283360" y="6459480"/>
            <a:ext cx="1523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ймон Бейкер</a:t>
            </a:r>
            <a:r>
              <a:rPr b="0" lang="ru-RU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457200" y="3962520"/>
            <a:ext cx="1981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eterburg"/>
                <a:ea typeface="Times New Roman"/>
              </a:rPr>
              <a:t>Малкольм Макдауэ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577960" y="3936960"/>
            <a:ext cx="1676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ина Канделаки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622440" y="6472080"/>
            <a:ext cx="15238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анислав Гроф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0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9" descr=""/>
          <p:cNvPicPr/>
          <p:nvPr/>
        </p:nvPicPr>
        <p:blipFill>
          <a:blip r:embed="rId4"/>
          <a:stretch/>
        </p:blipFill>
        <p:spPr>
          <a:xfrm>
            <a:off x="5156280" y="1828800"/>
            <a:ext cx="1557360" cy="2114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2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1" descr=""/>
          <p:cNvPicPr/>
          <p:nvPr/>
        </p:nvPicPr>
        <p:blipFill>
          <a:blip r:embed="rId5"/>
          <a:stretch/>
        </p:blipFill>
        <p:spPr>
          <a:xfrm>
            <a:off x="5156280" y="4343400"/>
            <a:ext cx="1571400" cy="2133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3"/>
          <p:cNvSpPr/>
          <p:nvPr/>
        </p:nvSpPr>
        <p:spPr>
          <a:xfrm>
            <a:off x="5156280" y="3924360"/>
            <a:ext cx="1676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лександр Рыбак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7137360" y="6464160"/>
            <a:ext cx="16765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ахноза Ганиева</a:t>
            </a:r>
            <a:r>
              <a:rPr b="0" lang="ru-RU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6985080" y="3924360"/>
            <a:ext cx="1930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алина Мельникова</a:t>
            </a:r>
            <a:r>
              <a:rPr b="0" lang="en-US" sz="1800" spc="-1" strike="noStrike">
                <a:solidFill>
                  <a:srgbClr val="000000"/>
                </a:solidFill>
                <a:latin typeface="Peterburg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1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0" descr=""/>
          <p:cNvPicPr/>
          <p:nvPr/>
        </p:nvPicPr>
        <p:blipFill>
          <a:blip r:embed="rId6"/>
          <a:stretch/>
        </p:blipFill>
        <p:spPr>
          <a:xfrm>
            <a:off x="7128000" y="1828800"/>
            <a:ext cx="1571400" cy="2133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3"/>
          <p:cNvSpPr/>
          <p:nvPr/>
        </p:nvSpPr>
        <p:spPr>
          <a:xfrm>
            <a:off x="39052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2" descr=""/>
          <p:cNvPicPr/>
          <p:nvPr/>
        </p:nvPicPr>
        <p:blipFill>
          <a:blip r:embed="rId7"/>
          <a:stretch/>
        </p:blipFill>
        <p:spPr>
          <a:xfrm>
            <a:off x="7124760" y="4343400"/>
            <a:ext cx="1571400" cy="2133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4"/>
          <p:cNvSpPr/>
          <p:nvPr/>
        </p:nvSpPr>
        <p:spPr>
          <a:xfrm>
            <a:off x="4902120" y="835200"/>
            <a:ext cx="4013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Интуитивные этические интров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Peterburg"/>
              </a:rPr>
              <a:t>Конформные медлительные коллективисты, в общении избегают «острых углов», гордятся осведомлённостью и эрудиц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2543040" y="4330800"/>
            <a:ext cx="1571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Palatino Linotype"/>
              </a:rPr>
              <a:t>А разве у других людей по-друго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оническая номенклатура (типы структуры самооценки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212760" y="503280"/>
            <a:ext cx="938844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Ключ к пониманию межтипных отнош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1160" y="1954080"/>
            <a:ext cx="67816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Peterburg"/>
              </a:rPr>
              <a:t>Примеры межтип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55284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42900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50532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44520" y="47242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altica"/>
              </a:rPr>
              <a:t>Симметр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5257800" y="4724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altica"/>
              </a:rPr>
              <a:t>Асимметр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98560" y="5387760"/>
            <a:ext cx="7202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Сплошными линиями обозначены взаимодействия одинаковых аспектов, прерывистыми – противоположных. Зелёным цветом обозначены конструктивные </a:t>
            </a:r>
            <a:r>
              <a:rPr b="1" lang="en-US" sz="1600" spc="-1" strike="noStrike">
                <a:solidFill>
                  <a:srgbClr val="008000"/>
                </a:solidFill>
                <a:latin typeface="Palatino Linotype"/>
              </a:rPr>
              <a:t>благоприятные</a:t>
            </a:r>
            <a:r>
              <a:rPr b="0" lang="en-US" sz="1600" spc="-1" strike="noStrike">
                <a:solidFill>
                  <a:srgbClr val="66ff66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взаимодействия, чёрным цветом –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подавляющие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, красным цветом – </a:t>
            </a:r>
            <a:r>
              <a:rPr b="1" lang="en-US" sz="1600" spc="-1" strike="noStrike">
                <a:solidFill>
                  <a:srgbClr val="ff0000"/>
                </a:solidFill>
                <a:latin typeface="Palatino Linotype"/>
              </a:rPr>
              <a:t>раздражающие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, синим цветом – </a:t>
            </a:r>
            <a:r>
              <a:rPr b="1" lang="en-US" sz="1600" spc="-1" strike="noStrike">
                <a:solidFill>
                  <a:srgbClr val="3366ff"/>
                </a:solidFill>
                <a:latin typeface="Palatino Linotype"/>
              </a:rPr>
              <a:t>безразличные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44640" y="1725480"/>
          <a:ext cx="3246480" cy="31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725480"/>
                    <a:ext cx="3246480" cy="31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910040" y="1720800"/>
          <a:ext cx="3243240" cy="314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0040" y="1720800"/>
                    <a:ext cx="324324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Peterburg"/>
              </a:rPr>
              <a:t>Примеры межтипных отно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350532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50532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52480" y="1914480"/>
          <a:ext cx="323532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914480"/>
                    <a:ext cx="323532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002200" y="1924200"/>
          <a:ext cx="3243240" cy="315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2200" y="1924200"/>
                    <a:ext cx="32432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11"/>
          <p:cNvSpPr/>
          <p:nvPr/>
        </p:nvSpPr>
        <p:spPr>
          <a:xfrm>
            <a:off x="1219320" y="4800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altica"/>
              </a:rPr>
              <a:t>Симметр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5194440" y="48006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altica"/>
              </a:rPr>
              <a:t>Асимметр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5387760"/>
            <a:ext cx="72025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Сплошными линиями обозначены взаимодействия одинаковых аспектов, прерывистыми – противоположных. Зелёным цветом обозначены конструктивные </a:t>
            </a:r>
            <a:r>
              <a:rPr b="1" lang="en-US" sz="1600" spc="-1" strike="noStrike">
                <a:solidFill>
                  <a:srgbClr val="008000"/>
                </a:solidFill>
                <a:latin typeface="Palatino Linotype"/>
              </a:rPr>
              <a:t>благоприятные</a:t>
            </a:r>
            <a:r>
              <a:rPr b="0" lang="en-US" sz="1600" spc="-1" strike="noStrike">
                <a:solidFill>
                  <a:srgbClr val="66ff66"/>
                </a:solidFill>
                <a:latin typeface="Palatino Linotyp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взаимодействия, чёрным цветом – 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подавляющие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, красным цветом – </a:t>
            </a:r>
            <a:r>
              <a:rPr b="1" lang="en-US" sz="1600" spc="-1" strike="noStrike">
                <a:solidFill>
                  <a:srgbClr val="ff0000"/>
                </a:solidFill>
                <a:latin typeface="Palatino Linotype"/>
              </a:rPr>
              <a:t>раздражающие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, синим цветом – </a:t>
            </a:r>
            <a:r>
              <a:rPr b="1" lang="en-US" sz="1600" spc="-1" strike="noStrike">
                <a:solidFill>
                  <a:srgbClr val="3366ff"/>
                </a:solidFill>
                <a:latin typeface="Palatino Linotype"/>
              </a:rPr>
              <a:t>безразличные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Palatino Linotype"/>
              </a:rPr>
              <a:t>Наиболее благоприятные сочетания типов</a:t>
            </a:r>
            <a:br>
              <a:rPr sz="3100"/>
            </a:b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(слева направо в порядке убы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0504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840600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Times New Roman Cyr"/>
              </a:rPr>
              <a:t>Всего существует 14 видов межтипных отнош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9960" y="72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 Cyr"/>
              </a:rPr>
              <a:t>Всего существует 14 видов межтипных отноше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219320" y="2895480"/>
            <a:ext cx="6705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С учётом асимметричных межтипных отношений представитель каждого типа выступает в какой-либо из 16 возможных ро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Рекомендуемые книги:</a:t>
            </a:r>
            <a:br>
              <a:rPr sz="2500"/>
            </a:br>
            <a:br>
              <a:rPr sz="10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авел Кулешов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Соционика. Модель структуры самооценки. Концептуальная основа.»</a:t>
            </a:r>
            <a:br>
              <a:rPr sz="25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авел Кулешов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Соционика (МСС). Межтипные отношения. Концептуальная основа»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8120" y="685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Palatino Linotype"/>
              </a:rPr>
              <a:t>Золотое правило нравственности:</a:t>
            </a:r>
            <a:br>
              <a:rPr sz="3600"/>
            </a:br>
            <a:r>
              <a:rPr b="1" lang="en-US" sz="3600" spc="-1" strike="noStrike">
                <a:solidFill>
                  <a:srgbClr val="0066cc"/>
                </a:solidFill>
                <a:latin typeface="Palatino Linotype"/>
              </a:rPr>
              <a:t>Обращайся с другими так, как ты хочешь, чтобы они обращались с т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35812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Не получитс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Palatino Linotype"/>
              </a:rPr>
              <a:t>Другие люди действительно</a:t>
            </a: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 – </a:t>
            </a:r>
            <a:r>
              <a:rPr b="1" lang="en-US" sz="7200" spc="-1" strike="noStrike">
                <a:solidFill>
                  <a:srgbClr val="0066cc"/>
                </a:solidFill>
                <a:latin typeface="Arial"/>
              </a:rPr>
              <a:t>друг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6094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Потому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terburg"/>
              </a:rPr>
              <a:t>Коммуникационна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Peterburg"/>
              </a:rPr>
              <a:t>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57200" y="41911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Сложность взаимопонимания заключается в том, что людям свойственно приписывать словам значения, взятые из их собственного опыта. Поэтому одним и тем же словам могут быть приписаны разные значения, либо разным словам может быть приписано одно и то ж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2520" y="1371600"/>
          <a:ext cx="823428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371600"/>
                    <a:ext cx="823428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terburg"/>
              </a:rPr>
              <a:t>Что такое социо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2520" y="1371600"/>
          <a:ext cx="823428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371600"/>
                    <a:ext cx="823428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онические типы (типы структуры самооценки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9999"/>
                </a:solidFill>
                <a:latin typeface="Arial"/>
              </a:rPr>
              <a:t>предмет исследования социо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12760" y="808200"/>
            <a:ext cx="9388440" cy="59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66ff"/>
                </a:solidFill>
                <a:latin typeface="Times New Roman Cyr"/>
              </a:rPr>
              <a:t>Применение соционических знани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69960" y="1219320"/>
            <a:ext cx="80168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Знание соционической типологии находит примен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- в расстановке кадров, позволяет создавать высокоэффективные коллективы с помощью подбора сотрудников с наиболее совместимыми соционическими тип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воспитании и образовании, путём подбора воспитательных и учебных методов, наиболее пригодных для людей конкретных соционических тип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выборе супруга, который делается с учётом соционической совместимости членов будущей супружеской па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решении семейных проб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профори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в общении, позволяя вести его с учётом типологических особенностей собесед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Чет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380880" y="762120"/>
            <a:ext cx="8305920" cy="825480"/>
          </a:xfrm>
          <a:prstGeom prst="rect">
            <a:avLst/>
          </a:prstGeom>
          <a:solidFill>
            <a:srgbClr val="ffd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tersburgCTT"/>
              </a:rPr>
              <a:t>Четверичное устройство действительности находит своё отражение в псих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2:28:22Z</dcterms:created>
  <dc:creator>user</dc:creator>
  <dc:description/>
  <dc:language>en-US</dc:language>
  <cp:lastModifiedBy>ПК</cp:lastModifiedBy>
  <dcterms:modified xsi:type="dcterms:W3CDTF">2024-04-09T18:45:34Z</dcterms:modified>
  <cp:revision>212</cp:revision>
  <dc:subject/>
  <dc:title>Соционика </dc:title>
</cp:coreProperties>
</file>